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DD17-A557-4029-8FE6-49C595114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C69C-BA0F-48C2-9B5F-36004D6AA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0916-DB30-4FE7-919C-370AB9D1E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2637-1983-4A50-9E6C-5B89DC289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88E4-C3B5-46FC-86BB-A3E518805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24C3-FBDF-486F-B7A8-83E69ECF8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1D8D-8BCE-499A-989F-252526606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7A70-CF9C-41B6-8CE0-433FC2381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40D4-1F6D-4FB1-9DA9-DF955ADE3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727F-EDB2-4165-B2C7-A75D4F84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7DCB-EEF8-4B1E-BA08-8CBD29C3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360F-718D-452D-9516-9728F502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0C04B-735D-44B4-832E-15733EA8BB9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9+vaso+deferente"/>
          <p:cNvPicPr/>
          <p:nvPr/>
        </p:nvPicPr>
        <p:blipFill>
          <a:blip r:embed="rId1"/>
          <a:srcRect l="8722" t="1538" r="14405" b="2218"/>
          <a:stretch/>
        </p:blipFill>
        <p:spPr>
          <a:xfrm>
            <a:off x="1403280" y="1341360"/>
            <a:ext cx="633744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aparato-reproductor-masculino-402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258920" y="1268280"/>
            <a:ext cx="6443640" cy="47865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1116000" y="40464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PARATO REPRODUCTOR MASCUL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Object 7"/>
          <p:cNvGraphicFramePr/>
          <p:nvPr/>
        </p:nvGraphicFramePr>
        <p:xfrm>
          <a:off x="1116000" y="1341360"/>
          <a:ext cx="6696000" cy="502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341360"/>
                    <a:ext cx="6696000" cy="502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Text Box 9"/>
          <p:cNvSpPr/>
          <p:nvPr/>
        </p:nvSpPr>
        <p:spPr>
          <a:xfrm>
            <a:off x="1116000" y="40464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PARATO REPRODUCTOR MASCUL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mas18"/>
          <p:cNvPicPr/>
          <p:nvPr/>
        </p:nvPicPr>
        <p:blipFill>
          <a:blip r:embed="rId1"/>
          <a:srcRect l="0" t="0" r="-1077" b="-523"/>
          <a:stretch/>
        </p:blipFill>
        <p:spPr>
          <a:xfrm>
            <a:off x="0" y="1052640"/>
            <a:ext cx="4788000" cy="44751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7"/>
          <p:cNvSpPr/>
          <p:nvPr/>
        </p:nvSpPr>
        <p:spPr>
          <a:xfrm>
            <a:off x="1116000" y="40464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PARATO REPRODUCTOR MASCUL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t%C3%BAbulo+semin%C3%ADfero"/>
          <p:cNvPicPr/>
          <p:nvPr/>
        </p:nvPicPr>
        <p:blipFill>
          <a:blip r:embed="rId2"/>
          <a:srcRect l="0" t="0" r="19852" b="0"/>
          <a:stretch/>
        </p:blipFill>
        <p:spPr>
          <a:xfrm>
            <a:off x="4788000" y="3179880"/>
            <a:ext cx="4356000" cy="36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4"/>
          <p:cNvGraphicFramePr/>
          <p:nvPr/>
        </p:nvGraphicFramePr>
        <p:xfrm>
          <a:off x="826920" y="549360"/>
          <a:ext cx="7058160" cy="574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549360"/>
                    <a:ext cx="7058160" cy="57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385920" y="166680"/>
            <a:ext cx="837216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1116000" y="40464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PARATO REPRODUCTOR MASCUL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image109"/>
          <p:cNvPicPr/>
          <p:nvPr/>
        </p:nvPicPr>
        <p:blipFill>
          <a:blip r:embed="rId1"/>
          <a:stretch/>
        </p:blipFill>
        <p:spPr>
          <a:xfrm>
            <a:off x="1258920" y="1413000"/>
            <a:ext cx="655308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1T08:17:27Z</dcterms:created>
  <dc:creator>Rafael</dc:creator>
  <dc:description/>
  <dc:language>en-US</dc:language>
  <cp:lastModifiedBy>Rafael Moreno</cp:lastModifiedBy>
  <dcterms:modified xsi:type="dcterms:W3CDTF">2015-05-25T18:01:20Z</dcterms:modified>
  <cp:revision>7</cp:revision>
  <dc:subject/>
  <dc:title>Diapositiva 1</dc:title>
</cp:coreProperties>
</file>